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7E13-ABA7-46A2-B044-3AE5CD2F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977-F3E0-417B-BE37-9AC4FD7D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C5B-6983-47C2-94C8-BC21C50F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4EE2-562D-4258-AAA7-0138849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5D2-1A39-4B5F-9B1B-7E456CFB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01EB-28CC-42A0-9FA7-E78751DB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FCB7-9ACF-48AC-BC47-79AE945F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E0EB-7642-4EFA-B426-B09D47D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991-9142-441D-9CD0-0E83F833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535F-EA95-400E-A4EE-A297238E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7214-D5F0-4D60-BAA8-5F200640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77A-2C48-49BF-947C-FDEAAE89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B52B-06BC-4C8F-95EB-88321E7B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697-2FBA-49A2-B739-7F4727A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DD2-0D67-4BF2-8245-CBF0779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1246-B71A-49EA-9BFB-40E2E8D7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151D-5DA5-4D0F-A200-C2270C56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A0D8-24FC-4956-8C9C-2CFCCCD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9E5-0B7F-4D47-BF45-AF6D603B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1CD-90DB-484C-82C1-F11872BF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BEB-BA44-4DD4-B56D-E108CDBD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625-848F-4863-B67D-5EB5C441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EE55-D488-430B-A24E-33E33CC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A62-20FA-4B0A-BECA-253104C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2585-16C3-45B5-A302-B1D0061E930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E29E-49EA-4F36-BA4A-3FBC182AEBE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bs.org/wnet/nature/reptiles/images/wallpaper/snakes_large.jpg&amp;imgrefurl=http://www.pbs.org/wnet/nature/reptiles/snakes.html&amp;h=768&amp;w=1024&amp;sz=303&amp;hl=en&amp;start=7&amp;tbnid=ArsFc15XYdc5SM:&amp;tbnh=113&amp;tbnw=150&amp;prev=/images%3Fq%3Dsnakes%26gbv%3D2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oopit.com/albums/Australian-snakes/GreenPythonSnake.jpg&amp;imgrefurl=http://woopitworldwide.blogspot.com/&amp;h=550&amp;w=550&amp;sz=549&amp;hl=en&amp;start=56&amp;tbnid=CunGpCmvxU4hrM:&amp;tbnh=133&amp;tbnw=133&amp;prev=/images%3Fq%3Dsnakes%26start%3D4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news.nationalgeographic.com/news/2006/08/images/060815-snake-stars_big.jpg&amp;imgrefurl=http://danriggs.blogspot.com/2006_08_01_archive.html&amp;h=309&amp;w=461&amp;sz=51&amp;hl=en&amp;start=86&amp;tbnid=RbBLEGe7YRcJDM:&amp;tbnh=86&amp;tbnw=128&amp;prev=/images%3Fq%3Dsnakes%26start%3D80%26gbv%3D2%26ndsp%3D20%26hl%3Den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: Ian Schulthe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5105520"/>
            <a:ext cx="17524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 you like snakes? I do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4" name="" descr="timber rattlesnake"/>
          <p:cNvPicPr/>
          <p:nvPr/>
        </p:nvPicPr>
        <p:blipFill>
          <a:blip r:embed="rId1"/>
          <a:stretch/>
        </p:blipFill>
        <p:spPr>
          <a:xfrm>
            <a:off x="2209680" y="2666880"/>
            <a:ext cx="5029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 lay their  eggs on land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y don’t you will never find the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 will never be foun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4114800"/>
            <a:ext cx="21337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nak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n hurt you ba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4998960"/>
            <a:ext cx="2438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y  can grow 36 feet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y grow too big they will  di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48320" y="5122800"/>
            <a:ext cx="22860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re are 2,800  different kind of snakes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 you get bit you will be h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4572000" y="3427560"/>
            <a:ext cx="457200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d  you know they can live in cold places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3124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31:08Z</dcterms:modified>
  <cp:revision>3</cp:revision>
  <dc:subject/>
  <dc:title>Animal Name</dc:title>
</cp:coreProperties>
</file>